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178-82D2-4528-91E6-6BA0D0C7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1AD-1830-4B78-963A-965581B5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5D9F4-DC40-4C94-8AC8-92CC1285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77AC9-C409-479B-88A4-24391B10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63589-5B2A-470B-A669-0BB8172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98A06-CB64-4087-9DF1-50801F4A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AF035-A553-4349-AA2A-233A25D5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60B3E-24D1-4A6E-9BD5-C07A5A5A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96654-DEA1-4E56-986B-E42A742F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39E2A-8E40-49CF-BEBE-B45E0F72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B82E7-9576-4BE5-8931-C038C4F4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AD721-7B50-49ED-93DE-506C4DC7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C12-68F4-4DA0-A8C8-437EA6F4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E5A74-3FC5-4FE8-9F08-C9251663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55C61-4D2F-4A54-A176-E7FE0C6B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7CDC6-3D20-40AC-B470-1C11F5B1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0F97D-2C54-4033-9D6F-28549471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4DAFF-6357-47E8-93A4-23B304CE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9041C-0076-4CD9-80F7-4C219B10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B2BCC-DE5C-4CD2-A2DA-F6491E93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B566B-DC5D-4C74-ADAD-32FAAE16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5B837-39F0-400F-BA65-9DE4A46D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68296-6452-4AD8-BA79-5567FB9C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2A8-328F-4845-A446-4690135D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0265A-12D3-4CFC-864A-83438E45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5801-FB11-4C45-B07D-32E9002A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EFD8-C091-425A-80A9-04FE485C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5C8A-BFEF-4931-BA02-B75F1B44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C871-50AB-4628-AA4D-3AE5D07A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CF2E-7ED9-4C77-B572-6D0AD550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6605-1C29-4201-8734-CE5099A9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C365-56E3-4383-942F-C112551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DDF-2661-49BB-8F90-363CBA0C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B36A-6DF1-4622-996C-8C58C70A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A47A-9129-483A-A18C-457743BB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BDC5-1C4B-4E35-84A1-BAE9BB86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F008-8EF2-4778-AC4A-F34C66DD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3D34-28FE-4DF4-B908-3A09AF98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53C64-0EE3-4D4F-837A-D4E81D7A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B393-1E2C-4618-8C33-5D2A6AEB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6E55-F8D0-4D61-AE0C-FACEBA85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711F4-C674-45EB-A084-AFC8DA09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328C-0F8D-4D7B-8706-4CA53D6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01E-6433-4681-8984-7248D3C4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4EDD0-3D6C-4F0C-8FD4-B3A9A3D7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0E94-9525-45E6-BD30-0DA148BA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8FA2-4137-4CB5-A01F-702327E1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5E49-D10D-4011-9220-F7D9A173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C4E2-00B3-40E8-BF8E-3EAB52A2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EF89-DFAA-4F4A-AD79-FB32F562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5701-6FCB-40A5-BE48-ED47D746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9163C-CBEB-49F2-AF4D-44523866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E1CC5-D221-4153-946A-AA019266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BC998-9521-4AD0-B00D-C1ABF1E7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C2F-6962-410D-88D0-E6FF9EAD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0A72B-33B7-4CA9-BEC3-2E04B67F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3A8D9-0965-4402-B696-9174D825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80172-C0C6-4417-A100-07B45E62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6DC2-007D-403A-AC26-3F0CDBAE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077AA-1EE8-4118-A0A3-67BDE7C0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BFE23-78B4-4593-9BBB-60ADA800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1D01E-DE81-4285-A897-46E7E3A1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FB65-96BF-4AF5-B70C-FB28C1CB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48F5-1D3A-4B32-A1DB-357D8F76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834DF-FB04-444A-8487-A554A219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D32-94F7-4237-9B8B-2AECA7E6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2B8B7-A884-4E94-A1C0-AC259A04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17CEC-C69A-4E54-864F-2F22EFA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9E447-B1D9-4F31-9B5D-56DD48E8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57E54-9971-4FE4-8649-A1BF0B64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5B534-0563-4708-B65E-C17A3EF7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AC58-5D8F-47D9-AC2D-8492A1E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C6699-DCE3-4816-B35C-0E5A2176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572D5-9A22-414E-9AC2-E0CDD4FE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0768B-8888-47AC-9FE1-965C1689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56FEE-FFE2-4AB5-962F-FF7BAA27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820-4B97-4DE3-9806-37A8E32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8BB63-AAC3-4056-B0E2-DCACE0AF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2F3E1-FE6D-4E53-BF23-2758D78B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9267E-F617-4EDF-801D-FD3015D6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23F6B-BC25-481E-9207-55D41D68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D77C7-E87C-4181-BD4C-C7F722A5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7AA05-41CC-40C9-B71B-ACA765ED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5A65C-5614-4B6B-A4F5-2FFEBC54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746B0-2322-4141-9793-9CA683DB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6DAC8-B760-4A13-A14E-CC36D08C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EA2F3-18AD-4540-8380-C1393A72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AD0-9E26-4A31-912C-82222B16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A3149-561E-47C3-A723-B422CB18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7F5C9-EF9F-4F4F-BCA9-3DB813E8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CDCE6-F393-419C-B5D4-76406CF0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EA0F2-FB60-4AB9-A226-398E92BE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5F2F-F574-4A44-B768-2FD7F91D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60F2E-6501-432B-B705-9BD69F21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6DAE7-2303-4E28-9CC7-C9BB6D40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1B1EC-18A2-4F1D-96FE-9A3B429A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0D2A3-2B82-4F58-8944-FD3750C4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5C0E6-753E-4944-B74E-DC21DD8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915-5A4F-4BF7-A25D-3EE1F53A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DF5D4-AED7-4CC4-A4BB-EA2A87B1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613A6-69EE-4915-B082-587EB084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3C314-BAAE-4665-8FB3-E69FAF70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DCF23-EE3F-4C62-AC4A-1F6CFB5F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5FC99-8B4C-4876-B361-13D86CBD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034DA-A5A2-4A20-B95D-85284487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78AAF-75C6-4D2E-BEDF-E71FDA2B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B231F-F9D7-450A-9626-2ACBC16F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95048-EEB2-41AF-84E1-F173DEB2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ED60D-B530-42C8-88BA-2CA30D1D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81F-275D-4860-87A2-20E75FB8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91A88-559A-46A6-8849-40FD51A6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3FAA0-B86F-4EB5-AD26-80BC5EC4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278F5-2688-4BC9-9BC8-5A8E6303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2E4D2-3153-4E0C-B351-14529AB1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2422E-C253-4FA3-B479-9C99880C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C8A90-6C3D-4AC8-8E47-2FC1E571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BD8F5-854F-4260-93A3-F5224335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FB234-BCEB-4695-BAF0-3DAABBFD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7D15E-B3FE-497A-877A-7C158486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589E2-BE71-4621-A24C-AAAD979C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5993-3449-40DD-BF9D-90E663EEFF9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782C-3FDC-4904-9DD8-A566C1F2FDC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375F-19E2-4001-BA3B-F91CF561254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D27E-EBDD-41A3-A308-5827A69E228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7F52-9FC1-4F9E-94DF-258148CD12F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419C-ABE4-4574-8E82-8C1907AB21C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2C23-CEC9-4F41-85AC-79447FBA300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68E3-EA85-4136-AD17-12E52228E55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0E81-5128-4B4F-908E-0B5D42585EA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8AE6-21A9-427F-8742-E1251BB1444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7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디에 가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디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시내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시내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친구를 만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own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친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만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re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 갑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서 일하십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병원이 어디에 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o ~, at ~; postposition denoting time or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0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시에 학교에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요일에도 회사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내일 미국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t ~; postposition denoting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교실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을 시장에서 샀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여자는 은행에서 일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부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usan (Pusa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병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우체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ost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극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일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다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offee sho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청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 city hall s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은행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당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하숙집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oarding ho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사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도서관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백화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department st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과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institu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 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병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숙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극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을 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을 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12T14:35:59Z</dcterms:modified>
  <cp:revision>97</cp:revision>
  <dc:subject/>
  <dc:title>KOREAN LANGUAGE</dc:title>
</cp:coreProperties>
</file>